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9EC8-6763-4A0D-B442-2B34FD54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07E2-2E9E-4339-94E6-8294A8423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C4B-CC81-4DC7-9BD3-91EE2C52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770-85F7-432F-8683-70380360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00C-5361-4CBE-8606-979613D1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689-0312-454D-9719-9837A2D1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E7E-7397-4D10-88B1-B87CB50F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AB3-4544-401B-A776-BD973BEE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5EF-EC59-48D5-8F43-C6AEEE48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28D-039D-4156-9F67-E8F85953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526-4665-4700-AFB3-6FD160F1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5F9-7263-4EBA-B163-B57638DB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1FC-11ED-44D9-B61A-D84CDFBB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919-48DC-4A6E-B72B-2B5DBF67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AB3B-40B7-4E6E-ABC9-444FC9669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5 Folk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cus on da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not become part of popu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inseparable from the acoustic gu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so far been of little cultural signific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re often difficult to interp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5 Folk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Focus on da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not become part of popu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inseparable from the acoustic gu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so far been of little cultural signific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re often difficult to interp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6 Hog production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6 Hog production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4_06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7 Wine production typically requires all of the following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ll-drained s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pportive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ximity to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ol su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ol w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7 Wine production typically requires all of the following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ll-drained s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pportive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ximity to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ool su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ol w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4_13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8 In America, tequila is consumed primaril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8 In America, tequila is consumed primaril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1 An act repeatedly performed by an individual i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b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st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noy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4_12r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9 Internet use is least prevalen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9 Internet use is least prevalen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4_15"/>
          <p:cNvPicPr/>
          <p:nvPr/>
        </p:nvPicPr>
        <p:blipFill>
          <a:blip r:embed="rId1"/>
          <a:stretch/>
        </p:blipFill>
        <p:spPr>
          <a:xfrm>
            <a:off x="2209680" y="457200"/>
            <a:ext cx="4800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10 Similar restaurants, gas stations, and stores throughout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llustrate how popular culture can creat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w how folk culture can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a prime example of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rease cultur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10 Similar restaurants, gas stations, and stores throughout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Illustrate how popular culture can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uniform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w how folk culture can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a prime example of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rease cultur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1 An act repeatedly performed by an individual i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b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st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noy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2 Popular culture is prac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ly where folk culture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y large heterogene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y individu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Only in the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 specific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2 Popular culture is prac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ly where folk culture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By large heterogene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y individu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Only in the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 specific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3 Folk culture is most likely to sprea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erarchical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agio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imulus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pycat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ocation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3 Folk culture is most likely to sprea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erarchical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agio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imulus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pycat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Relocation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4 Modern communications methods have _________ of social cus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lowed the disse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d little effect on th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reased the global uniform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ed to th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4 Modern communications methods have _________ of social cus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lowed the disse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d little effect on th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creased the global uniform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ed to th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0-12-10T23:46:53Z</dcterms:modified>
  <cp:revision>82</cp:revision>
  <dc:subject/>
  <dc:title>CRS Chapter 4</dc:title>
</cp:coreProperties>
</file>